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jpeg" ContentType="image/jpeg"/>
  <Override PartName="/ppt/media/image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9FEB9-6AE0-41FD-9334-853C5CB2E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4F300-6EE9-4200-8600-353060445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41BFD-9E4A-4BFA-A1E0-83611600B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303BE-4462-4B45-952E-F4D18F97A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BDC53-6DBD-4686-B85E-A55D13FBD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301C5-F944-4BB0-9C50-88DD22E30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73651-E8DF-4D2A-AF5E-EFF28FC3A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933CC-9D39-47CA-A4DB-DE153108A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BA062-3583-4ECE-A457-B8CC57CE6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D2C45-12F1-4E27-A9A3-246369115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68F77-90E0-4FBB-BFC9-E3C283FBE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A3046-14D8-46B0-9032-1D21F399C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78B05-B596-4702-888A-02E5B44BB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8CEC7-78CA-4E7E-9FE2-3B25A18ED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2BD99-F074-4146-AFE6-8CC3C95FA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41757-C805-4EF7-8761-C755E6154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41CBC-7EBF-495F-9C95-25143630A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8A7E5-7F88-4199-A890-36F2A4DB1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742C9-2527-4CCE-BFC4-24843092F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336E0-C749-4D76-A92A-AC3FEFD2A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20199-2FD8-4163-8A61-1F9FF5838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7E7D1-271A-471D-BC8F-91450DB3A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8FA21-7442-4F4F-A993-09798D255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31CF1-AAC2-4314-9E51-67565B084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57200" y="992160"/>
            <a:ext cx="8152920" cy="1599840"/>
            <a:chOff x="457200" y="992160"/>
            <a:chExt cx="8152920" cy="1599840"/>
          </a:xfrm>
        </p:grpSpPr>
        <p:sp>
          <p:nvSpPr>
            <p:cNvPr id="1" name=""/>
            <p:cNvSpPr/>
            <p:nvPr/>
          </p:nvSpPr>
          <p:spPr>
            <a:xfrm>
              <a:off x="2886480" y="9921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811960" y="11574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71280" y="13780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4C8E9-D92C-4927-8E5E-9392283A9488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457200" y="2363760"/>
            <a:ext cx="8152920" cy="1599840"/>
            <a:chOff x="457200" y="2363760"/>
            <a:chExt cx="8152920" cy="1599840"/>
          </a:xfrm>
        </p:grpSpPr>
        <p:sp>
          <p:nvSpPr>
            <p:cNvPr id="47" name=""/>
            <p:cNvSpPr/>
            <p:nvPr/>
          </p:nvSpPr>
          <p:spPr>
            <a:xfrm>
              <a:off x="2886480" y="23637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811960" y="25290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71280" y="27496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942E6-91A6-4BE3-9FDD-59D26B1F5051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Ride the New 25-Mil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Mountain Bike Trai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Veterans’ Park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371600" y="914400"/>
            <a:ext cx="62485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2693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6600"/>
                    </a:gs>
                    <a:gs pos="100000">
                      <a:srgbClr val="fe9d5c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Come Play in the Dirt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6600"/>
                  </a:gs>
                  <a:gs pos="100000">
                    <a:srgbClr val="fe9d5c"/>
                  </a:gs>
                </a:gsLst>
                <a:lin ang="5400000"/>
              </a:gra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5" name=""/>
          <p:cNvSpPr/>
          <p:nvPr/>
        </p:nvSpPr>
        <p:spPr>
          <a:xfrm rot="19768800">
            <a:off x="228600" y="4460400"/>
            <a:ext cx="2622600" cy="2397240"/>
          </a:xfrm>
          <a:prstGeom prst="irregularSeal1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Now Open!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 advTm="6000">
    <p:randomBa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Fun For All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Bring the whole family to ride the New   25-Mile Mountain Bike Trai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505320" y="3657600"/>
            <a:ext cx="2282760" cy="228276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randomBa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DON’T HAVE A BIK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RENT A BIKE FOR ONLY $15 AN HOUR ( if bike is damaged it will be purchased 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2133720" y="3827520"/>
            <a:ext cx="2652480" cy="163332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FREE REFRESHMENTS 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ree refreshments provided NO PURCHASE NECESSAR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4952880" y="3581280"/>
            <a:ext cx="1119240" cy="247824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DON’T BE A LITTER BUG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NO LITTERING ALLOWE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 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4419720" y="3429000"/>
            <a:ext cx="1571400" cy="209376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BE CAREFUL!!!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WATCH THE TRAIL NOT THE SCENERY AS YOU RID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590920" y="3084480"/>
            <a:ext cx="3747960" cy="377352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randomBa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09680" y="457200"/>
            <a:ext cx="373392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THE END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BY HAYDEN CALEB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 advTm="6000"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5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5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30T15:34:25Z</dcterms:created>
  <dc:creator>771009</dc:creator>
  <dc:description/>
  <cp:keywords/>
  <dc:language>en-US</dc:language>
  <cp:lastModifiedBy>771009</cp:lastModifiedBy>
  <dcterms:modified xsi:type="dcterms:W3CDTF">2009-03-31T15:38:27Z</dcterms:modified>
  <cp:revision>14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690221033</vt:lpwstr>
  </property>
</Properties>
</file>